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91948"/>
        <c:axId val="73309370"/>
      </c:barChart>
      <c:catAx>
        <c:axId val="25191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09370"/>
        <c:crosses val="autoZero"/>
        <c:auto val="1"/>
        <c:lblAlgn val="ctr"/>
        <c:lblOffset val="100"/>
        <c:noMultiLvlLbl val="0"/>
      </c:catAx>
      <c:valAx>
        <c:axId val="73309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91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2DC-EF81-434D-B320-23411D3A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823-BB3D-45A5-976D-26B27263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3F0-28D8-4DB4-9978-9C45CD69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BC0-EA06-4A4F-9F77-25E6B2EA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29C-7C0D-4F17-B6DD-E6B93492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EB9-ECCC-465B-BE2D-A02559D7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02F-32DB-4A1E-92A3-D42E8BFB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44A-11CE-4A35-8D8C-2E3F2E82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46B0-D28E-4BC0-A3DA-A09D2D64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38E-D9A6-4CA8-9E93-E93B0F91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0C1-3BB8-4F21-97E5-EB592E28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04C-1CB1-46B8-B9F4-C5226429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AA3DA-14D7-426F-A2D6-EB83F7D8C9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