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50148"/>
        <c:axId val="18405387"/>
      </c:barChart>
      <c:catAx>
        <c:axId val="82850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5387"/>
        <c:crosses val="autoZero"/>
        <c:auto val="1"/>
        <c:lblAlgn val="ctr"/>
        <c:lblOffset val="100"/>
        <c:noMultiLvlLbl val="0"/>
      </c:catAx>
      <c:valAx>
        <c:axId val="18405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0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B29-ED73-4068-B02E-BBA50404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B8F-ED2E-44AB-937B-0FCB53FF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A35-AC5B-45BF-84CC-BABB2244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15D-A59D-43B3-B4DC-684FFF5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454-BC82-47A8-B9AC-BFD22EF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02F-B137-4C07-BB50-8745454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786-6EC6-4CB6-8F56-8027CE8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F8C-EC74-4A51-9B4C-43A2934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BF3-404C-4232-8F43-8A9AD9D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D13-7274-4EDB-9D08-6F84F41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824-6BD7-4C01-8DE3-1E29D0B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96A-8090-4B19-9DB0-8670D25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99496-DACB-4A32-8190-90D3AF82B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