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93224"/>
        <c:axId val="66249681"/>
      </c:barChart>
      <c:catAx>
        <c:axId val="89593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49681"/>
        <c:crosses val="autoZero"/>
        <c:auto val="1"/>
        <c:lblAlgn val="ctr"/>
        <c:lblOffset val="100"/>
        <c:noMultiLvlLbl val="0"/>
      </c:catAx>
      <c:valAx>
        <c:axId val="66249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3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9CC-E1C5-40ED-A27B-EAFAAEC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860-6D73-4DDA-8CED-B548A78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8E2-2874-4C18-A927-909ACAD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D0A-DE45-4826-ABF2-5EC71D78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F1D-CAF5-42CD-B22B-A98C7A9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7F4-6FFD-4B39-ACC4-4F9810DB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84B-8B93-4BDD-B783-E3802F34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C33-C95E-4192-A189-C45D4E6E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C18-3F44-4923-A52C-E22A785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96A-1C94-4FFF-947E-D96B590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54C-FBF6-411C-B969-DD24045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4AC-876F-45D3-AFD9-136196E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9ED46-B053-47C9-A9F2-7E2540810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