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834236"/>
        <c:axId val="18344052"/>
      </c:barChart>
      <c:catAx>
        <c:axId val="648342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44052"/>
        <c:crosses val="autoZero"/>
        <c:auto val="1"/>
        <c:lblAlgn val="ctr"/>
        <c:lblOffset val="100"/>
        <c:noMultiLvlLbl val="0"/>
      </c:catAx>
      <c:valAx>
        <c:axId val="183440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342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0C6A-5D65-499B-AC51-D2D62AFA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FE1D-30F7-445A-B2B5-3D77853D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F9E1-1CDD-4375-BBC9-4D2378C9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A6E4-5ABB-4A55-8CA2-6B67F778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1459-7B41-4815-86C0-412240FF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2668-00A9-419C-BDC1-4541E163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619-9E35-4AAC-A6DA-872A3631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F5D5-A3E9-4EBE-89A8-28723106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314C-C756-4361-A8C8-76729B5F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CC0C-6023-452C-BD51-766100DA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F6F9-080A-44DF-9CD2-3232CD78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6D25-F97C-4E14-8711-A8240A3B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362E8-79CB-49BE-ABF4-ACBB1D0403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