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91411"/>
        <c:axId val="5306463"/>
      </c:barChart>
      <c:catAx>
        <c:axId val="699914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6463"/>
        <c:crosses val="autoZero"/>
        <c:auto val="1"/>
        <c:lblAlgn val="ctr"/>
        <c:lblOffset val="100"/>
        <c:noMultiLvlLbl val="0"/>
      </c:catAx>
      <c:valAx>
        <c:axId val="53064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914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692C-BC5D-4B2E-9E77-FC02C6AA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0418-5466-4C06-9242-E759E219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ABE9-7AAE-4C32-964D-A0190A8A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4105-9590-4173-BD63-53A5C38B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2420-24F6-4B72-9AF3-FF6A6EA9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37EF-BA8A-4BE0-BB74-530E98D9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DCF6-6574-436B-B556-BF87ACF2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DB70-7847-4399-BEDE-08D54D3F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912B-9CCA-4753-948D-C86C02F2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46EF-B5C9-4145-A3D6-DE7144A8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B792-586A-45B2-89FA-CCE6943F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8595-AC0E-4F86-984E-F46A4EA6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16EAA-7650-457A-A0F7-D87596339E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