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702464"/>
        <c:axId val="61957644"/>
      </c:barChart>
      <c:catAx>
        <c:axId val="60702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957644"/>
        <c:crosses val="autoZero"/>
        <c:auto val="1"/>
        <c:lblAlgn val="ctr"/>
        <c:lblOffset val="100"/>
        <c:noMultiLvlLbl val="0"/>
      </c:catAx>
      <c:valAx>
        <c:axId val="619576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702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3CDDC-F56B-4667-8ED2-BAF42E6A2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D7F9-2240-4BF5-81A0-70206DE3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3E30-DC57-4323-ADD6-FB7965A0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3320-E870-4CD7-8566-43D16BD3E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86A-4F3D-4DEA-9D67-1F6F2455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1232-6637-4E1A-9691-D430FC97C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0DD-5C99-4BD0-B241-F2AE7F578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FE03-8C80-444F-8489-6FA27F824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990A-B053-4CDC-80A3-D889FC73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C87C-149B-4CC7-99E4-55A30FA71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3ADA-ED7A-4F24-AB8A-227C9081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69D4-2472-470F-81CC-18312C0D9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B9992-B188-4CD5-8B2A-E180EF5690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