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35486"/>
        <c:axId val="61408506"/>
      </c:barChart>
      <c:catAx>
        <c:axId val="46435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8506"/>
        <c:crosses val="autoZero"/>
        <c:auto val="1"/>
        <c:lblAlgn val="ctr"/>
        <c:lblOffset val="100"/>
        <c:noMultiLvlLbl val="0"/>
      </c:catAx>
      <c:valAx>
        <c:axId val="61408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35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0D2-8A8D-4393-889F-774939E9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DD7-7644-4774-8133-BA03226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25F-4AB5-4A23-8162-E09E8225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BC3-952F-44E1-B893-5D3E33D5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A7D-E61D-48A4-8CF0-F836584E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86C-1CBF-499A-ACAC-388A1F67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CAA-8D49-4D54-9C31-BD643C44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BFA-FBFC-4124-B5CD-619D8BF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5C5-3A4B-43B7-8FEA-66C8149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4D3-0906-43A2-9506-1EDF55B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F93-CC6D-46C9-92AF-5C79D53F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633-36E1-4401-9075-7B6DAA6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A605E-E647-4F9D-A8E4-4C5F50DFF0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