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67722"/>
        <c:axId val="51223901"/>
      </c:barChart>
      <c:catAx>
        <c:axId val="27067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23901"/>
        <c:crosses val="autoZero"/>
        <c:auto val="1"/>
        <c:lblAlgn val="ctr"/>
        <c:lblOffset val="100"/>
        <c:noMultiLvlLbl val="0"/>
      </c:catAx>
      <c:valAx>
        <c:axId val="51223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67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101-3885-4397-B08E-4A00FA22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15C-73C7-428B-B7C9-19527D41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1F8-8C7A-48E4-B680-CEAB023B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341-01DB-40D1-8C65-1D30F9F3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923-61AC-45A8-BF16-3B9ECC9C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827-DA41-4A33-B1C3-79015D88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58A-12DF-4155-B0FA-E40FE79C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43A-E95F-42F3-AB2B-1060B928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4D5-3FBE-461D-AAD3-D5A8F0AD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18E-AF72-4E0A-9E1F-2D1CB397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DBA-BB20-4E41-9982-8A05BF6B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BA3-F511-4000-ABE5-1928B0D4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801D1-57E3-45E0-B7C1-4769E60975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