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2452"/>
        <c:axId val="38916250"/>
      </c:barChart>
      <c:catAx>
        <c:axId val="1392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6250"/>
        <c:crosses val="autoZero"/>
        <c:auto val="1"/>
        <c:lblAlgn val="ctr"/>
        <c:lblOffset val="100"/>
        <c:noMultiLvlLbl val="0"/>
      </c:catAx>
      <c:valAx>
        <c:axId val="38916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91A-8874-4745-ACC0-60C0BB11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B64-DD1A-4554-AD64-EA8A8E8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7C2-890F-4340-9302-28CAB5D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1A1-F961-40EC-9B39-85AA53E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F97-A01C-4C34-ACF0-A848CF0B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2C3-D0DA-4E9A-8314-5F8DFBF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AF8-1415-4DA5-ACEF-4DC641F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F5E-3AFA-475B-B0B4-C14B55C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B70-DC0C-45C0-AF29-7894DCF2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C5C-BF66-45A0-AD45-EAE6FE1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905-7E3D-4664-AA24-1BCE467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C06-961B-40C5-955F-A88054A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AD4B-DCA7-4CC9-9211-B331CC278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