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00965"/>
        <c:axId val="10364623"/>
      </c:barChart>
      <c:catAx>
        <c:axId val="33000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4623"/>
        <c:crosses val="autoZero"/>
        <c:auto val="1"/>
        <c:lblAlgn val="ctr"/>
        <c:lblOffset val="100"/>
        <c:noMultiLvlLbl val="0"/>
      </c:catAx>
      <c:valAx>
        <c:axId val="10364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00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1CF-9685-4455-A937-52296C3B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53A-5F5C-4C7D-AC20-583AC4D8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108-6261-47B8-B154-4A61477A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ABC-7346-4DC8-BF2F-43CA2FD7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92F-597B-4976-A8BF-08EC4B1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81B-D77D-4C90-8FA0-0DFDE826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2DD-547C-41C6-AC3A-F8DB923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3E5B-9FB1-4187-9EDE-87DC29F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D62-6AA7-4676-B7C2-69CD5A7B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8F1-8333-4690-BAD2-DB5C6296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D7A-36CB-417D-A190-E60F2FD5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D48-3CBC-4B00-99AA-FC75BDBF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8BA7A-E523-4D81-9626-B7AB5ED8A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