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62359"/>
        <c:axId val="54409311"/>
      </c:barChart>
      <c:catAx>
        <c:axId val="98062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09311"/>
        <c:crosses val="autoZero"/>
        <c:auto val="1"/>
        <c:lblAlgn val="ctr"/>
        <c:lblOffset val="100"/>
        <c:noMultiLvlLbl val="0"/>
      </c:catAx>
      <c:valAx>
        <c:axId val="544093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62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BE0-090B-4921-9763-8109426A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423-AB38-4F5A-BE9E-03799ED7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641-1D52-430A-A160-8D88E518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E41-A07E-480F-8C0C-74B11CF6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330-E105-4B7D-BEFC-5D8D8B54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5F1-3190-48FA-9938-9DC2F464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925-3B29-41E5-BD2A-C5587D70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998-16EA-4A7D-BD91-3E6B4AA8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19E-3284-42C6-97C4-6B3FAED0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EE4-3EE5-455C-B138-4FA5A5BB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031-C958-40E3-A123-B4A4D852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827-3ECF-4832-8945-F081E364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C7E46-3217-4440-94F4-33EF9E3DEC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