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87638"/>
        <c:axId val="59833803"/>
      </c:barChart>
      <c:catAx>
        <c:axId val="65187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33803"/>
        <c:crosses val="autoZero"/>
        <c:auto val="1"/>
        <c:lblAlgn val="ctr"/>
        <c:lblOffset val="100"/>
        <c:noMultiLvlLbl val="0"/>
      </c:catAx>
      <c:valAx>
        <c:axId val="59833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87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B19-B4CD-4E77-AF5D-323C3513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CA0-5BB1-4B8A-BB73-800DF7BC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9F0-2E99-4F63-A071-7499FE36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1F8-2830-48BE-905B-B154E950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4D7-36DA-4C2A-8421-30C825EA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7A2-C30C-4D22-84CF-0C1BAC0D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F33-D95B-4844-B835-8AF9AFA4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E34-4440-4AE3-B056-46E6D8C4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0DC-9D8B-4B33-B643-FE8905E5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AD3-7C7F-425B-851C-B644DCB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CE7-421C-4706-A61E-3BCE6FD2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558-DEE5-47AA-AEFE-991891B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40D0E-1979-422B-BDA1-933AEA7B8F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