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95176"/>
        <c:axId val="13665283"/>
      </c:barChart>
      <c:catAx>
        <c:axId val="92395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65283"/>
        <c:crosses val="autoZero"/>
        <c:auto val="1"/>
        <c:lblAlgn val="ctr"/>
        <c:lblOffset val="100"/>
        <c:noMultiLvlLbl val="0"/>
      </c:catAx>
      <c:valAx>
        <c:axId val="13665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95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3DC-1439-4236-8787-7C9E457D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FCC-F49F-4C22-B6C3-F936CD4F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873-7118-4CE1-9159-AF42C2B6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E26-C36E-4C72-8D4F-7265BD8C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69A-504E-46A2-BA46-CE8B3754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52B-7D1C-4185-812D-FA3E2389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FF7-16AA-4F27-9FB6-44CAE1E5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1A8-9951-4562-85E5-5714F722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A4F-EDF5-4128-9E19-CF3DB160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19B-C5D0-4805-A01A-8957465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E53-70CC-417B-A4AB-FAB8202E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A59-6C83-4229-A09A-AB74A9FB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D23F1-8963-4E30-A87B-5C3897C978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