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62458"/>
        <c:axId val="42010050"/>
      </c:barChart>
      <c:catAx>
        <c:axId val="94262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10050"/>
        <c:crosses val="autoZero"/>
        <c:auto val="1"/>
        <c:lblAlgn val="ctr"/>
        <c:lblOffset val="100"/>
        <c:noMultiLvlLbl val="0"/>
      </c:catAx>
      <c:valAx>
        <c:axId val="42010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62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171-A9AC-4370-85A0-1751B281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7C5-A7BE-4839-A1CE-D6793F3C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973-5444-49C1-8B28-C34E05A4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73A-7CF9-4B43-8723-1F7DD6A9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A74-7423-4890-AF33-216CC4F0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DCF-544D-4A29-B896-F502E8A7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3DA-4257-4ECE-9636-1D01849F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7A6-4C9D-4222-92E8-BEFFE714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75C-306D-4806-9DF8-142EDB8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29F-A0EA-4603-AE11-0CAAF2AC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90D-B2E3-4033-B565-74EA5CA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C11-3BAD-43F6-9BE0-1EB730C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4390E-1817-44DF-A653-16480BE1E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