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40132"/>
        <c:axId val="47725562"/>
      </c:barChart>
      <c:catAx>
        <c:axId val="30540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25562"/>
        <c:crosses val="autoZero"/>
        <c:auto val="1"/>
        <c:lblAlgn val="ctr"/>
        <c:lblOffset val="100"/>
        <c:noMultiLvlLbl val="0"/>
      </c:catAx>
      <c:valAx>
        <c:axId val="47725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0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D96-712C-4FF2-AB11-70064528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A1E-0ED3-48AF-A125-EBC62B0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001-221A-4B8D-8D3D-F3E63921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F0C-857B-40E2-B87B-8497B0F1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B85-19EF-444E-BAD1-4B90DF66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EA3-4B01-4DE5-8E4C-BBC54850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13A-B153-4C7D-B72E-F6C0DA1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653-F459-4561-9640-2F93782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290-8DC4-472D-B1DD-5D472E4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E77-3055-4850-8F1C-4B46926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FF5-D53B-4888-970B-6396D12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545-EA73-4BFD-9CFE-9C62FEE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FC95-F657-48D0-AC53-10B062C81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