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30292"/>
        <c:axId val="44016902"/>
      </c:barChart>
      <c:catAx>
        <c:axId val="20430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16902"/>
        <c:crosses val="autoZero"/>
        <c:auto val="1"/>
        <c:lblAlgn val="ctr"/>
        <c:lblOffset val="100"/>
        <c:noMultiLvlLbl val="0"/>
      </c:catAx>
      <c:valAx>
        <c:axId val="44016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30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8D9-AAA6-40CC-B29B-F695860D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557-A891-42E0-B7C3-BC15C40F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183-C3DA-4ABC-9326-A1CFEF4E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BF9-73CD-4894-B16A-64837F77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173-0CF4-473E-9EA7-99F28DC4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5AE-F7A6-458D-B960-B7D0E022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EEF-9956-4162-A37E-396D029B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22E-77B9-4443-B031-7E5268F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FCE-003C-4FC8-A7BF-D5FA80E6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9AF-D81A-4DAC-AF54-68D0A87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B58-265B-442E-899C-9360F1B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5B5-C88E-48DF-8811-252EE181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9D823-0510-4DCC-B759-C51DB7512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